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1D9D-7076-4556-9839-BFCF583A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FE21-2C9B-4E25-98CA-F33E3BA69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4475-7409-4BAD-A436-78FC59649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3DA3-E525-4DA9-8FFB-CA90407EA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D12F-FA6C-495C-9904-C9C2579B6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34A1-2788-45F2-88C9-B4A17C550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3130-0A07-4891-A0DC-63D7890BA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32E6-1437-4FD1-81A5-860102DF6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4523-CED8-4AAD-8C6A-8EBC0157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B470-4532-4222-835B-5DAB3A91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90C-85FD-4A44-BD85-470ABBE8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BBD0-0C7A-425A-B116-0D1AEB040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F051-DB0F-428E-9D26-C8B61460A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7901-84F2-4514-9427-E2FC8B305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45D2-9907-4E19-8499-7A9B904F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C3E2-DC68-432E-8134-67630BBF6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4B86-FDB3-48A2-9143-65BD9DCEF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AD7A-ABFA-4C16-91C4-280C719F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4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/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6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7"/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5433480" y="954000"/>
            <a:ext cx="282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 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Resourc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5430240" y="2521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5433480" y="292752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6126120" y="4462560"/>
            <a:ext cx="2212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7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8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9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095480" y="20970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Read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93680" y="2565360"/>
            <a:ext cx="7112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three basic economic questions each country must answer to make decisions about using thei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Different Types of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2600" y="189216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US" sz="3000" spc="-1" strike="noStrike">
                <a:solidFill>
                  <a:srgbClr val="23408f"/>
                </a:solidFill>
                <a:latin typeface="Arial"/>
              </a:rPr>
              <a:t>economic system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swer the three basic economic questions in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untry usually follows one of the following types of econom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econom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on’s plan for answering the three econom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4 main types of Economic System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600" y="1082160"/>
            <a:ext cx="8594640" cy="7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You teach the teacher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530360"/>
            <a:ext cx="86691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assigned part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 a PowerPoint or Prezi presentation with a title sli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ic:  You need to teach me about the four different types of economies and want to use the PP as a guid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n’t forget!  Slides aren’t meant to have tons of text, USE BULLETS!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d pictures, word art, and animations to make the presentation more exciting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 a references slide to cite 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and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and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government owns and controls all the resources and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ommand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s are owned and controlled by th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and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4960" y="1974960"/>
          <a:ext cx="8301240" cy="3894120"/>
        </p:xfrm>
        <a:graphic>
          <a:graphicData uri="http://schemas.openxmlformats.org/drawingml/2006/table">
            <a:tbl>
              <a:tblPr/>
              <a:tblGrid>
                <a:gridCol w="8301240"/>
              </a:tblGrid>
              <a:tr h="476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Command Econ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417840">
                <a:tc>
                  <a:txBody>
                    <a:bodyPr lIns="182880" rIns="90000" anchor="t">
                      <a:noAutofit/>
                    </a:bodyPr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 government dictates what will be produced, how it will be produced, and who will get the goo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re is little choice of what to bu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Goods are not considered necessiti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rices are controlled by the stat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re is no competition and little incentive to produce a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etter produc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Highly skilled workers may earn the same as low-skilled worke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and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moderate command economy, there is some form of private enterprise, but the state owns majo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arket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arket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market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s are owned and controlled by the people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Market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economic questions are answered by individuals through buying and selling in the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place – supermarket, Internet, mall, business office or even a flea market…pretty much anywhere where money is t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arket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among similar businesses is one of the basic characteristics of a free enterpris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arket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60400" y="1884240"/>
          <a:ext cx="7821720" cy="4264200"/>
        </p:xfrm>
        <a:graphic>
          <a:graphicData uri="http://schemas.openxmlformats.org/drawingml/2006/table">
            <a:tbl>
              <a:tblPr/>
              <a:tblGrid>
                <a:gridCol w="7821720"/>
              </a:tblGrid>
              <a:tr h="475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Market Econ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815280">
                <a:tc>
                  <a:txBody>
                    <a:bodyPr lIns="182880" rIns="90000" anchor="t">
                      <a:noAutofit/>
                    </a:bodyPr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Resources are privately own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Citizens can own their own homes, land, and business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 owners decide how their businesses will be r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 owners decide what to produce and sel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 owners decide what to char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Government works to promote free trade and prevent unfair trade practic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Consumers choose their occupations and where to l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re is an uneven distribution of incom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93680" y="2565360"/>
            <a:ext cx="7229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rcity of economic resources forces every country to develop an economic system that determines how resources will be used. Each economic system has its advantages and disadvan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Traditional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traditional econo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old scho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gression to new trend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countries use 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traditional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and services are produced the way it has always been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ixed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3336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ations have a </a:t>
            </a: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mixed econo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ombines elements of capitalism and socialism (public ownership) along with the idea of the government still having the final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mixed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elements of the command and market econo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The U.S. Economic System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778040"/>
            <a:ext cx="43336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ell MT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wners are free to decide what to produce and bu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freedom is vital to the success of the U.S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4932360" y="2575080"/>
            <a:ext cx="38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api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vate ownership of resources by individuals, rather than by th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ther names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 economy is also known a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e enterpri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vate enterp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think it’s called free or private enterpr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0000"/>
                </a:solidFill>
                <a:latin typeface="Arial"/>
              </a:rPr>
              <a:t>***The U.S economic system is based on </a:t>
            </a:r>
            <a:r>
              <a:rPr b="1" lang="en-US" sz="2800" spc="-1" strike="noStrike" u="sng">
                <a:solidFill>
                  <a:srgbClr val="b40000"/>
                </a:solidFill>
                <a:uFillTx/>
                <a:latin typeface="Arial"/>
              </a:rPr>
              <a:t>four</a:t>
            </a:r>
            <a:r>
              <a:rPr b="1" lang="en-US" sz="2800" spc="-1" strike="noStrike">
                <a:solidFill>
                  <a:srgbClr val="b40000"/>
                </a:solidFill>
                <a:latin typeface="Arial"/>
              </a:rPr>
              <a:t> important principles:</a:t>
            </a:r>
            <a:endParaRPr b="1" lang="en-US" sz="28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74480" y="2539800"/>
            <a:ext cx="8669160" cy="39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 of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ave some space after each of these, going to talk about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40000"/>
                </a:solidFill>
                <a:uFillTx/>
                <a:latin typeface="Arial"/>
              </a:rPr>
              <a:t>Private Property-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you can own, use, or dispose of things of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.S. you can own anything you want (as long as it’s legal) and do what you want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40000"/>
                </a:solidFill>
                <a:uFillTx/>
                <a:latin typeface="Arial"/>
              </a:rPr>
              <a:t>Freedom of Choice-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decisions independently and must accept the consequences of those decis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hen individual decisions harm others will the government regulate freedom of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40000"/>
                </a:solidFill>
                <a:uFillTx/>
                <a:latin typeface="Arial"/>
              </a:rPr>
              <a:t>Profit-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money left from sales after all of the costs of operating a business have been pa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is at the heart of the private enterprise system…people enjoy the challenge of running their own business and want to do well and also make a pro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40000"/>
                </a:solidFill>
                <a:uFillTx/>
                <a:latin typeface="Arial"/>
              </a:rPr>
              <a:t>Competition-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778040"/>
            <a:ext cx="43336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s businesses to improve products, keep costs low, provide effective customer service and search for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don’t—who will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4932360" y="2575080"/>
            <a:ext cx="38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valry among businesses to sell their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section review copy"/>
          <p:cNvPicPr/>
          <p:nvPr/>
        </p:nvPicPr>
        <p:blipFill>
          <a:blip r:embed="rId1"/>
          <a:stretch/>
        </p:blipFill>
        <p:spPr>
          <a:xfrm>
            <a:off x="490680" y="1201680"/>
            <a:ext cx="8491320" cy="5024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003320" y="236700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In a market system, what determines how many goods and services an individual can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03320" y="370512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It is through one’s income—mostly generated by working.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097280" y="20970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93680" y="2565360"/>
            <a:ext cx="69217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Econom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Types of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1" descr="section review copy"/>
          <p:cNvPicPr/>
          <p:nvPr/>
        </p:nvPicPr>
        <p:blipFill>
          <a:blip r:embed="rId1"/>
          <a:stretch/>
        </p:blipFill>
        <p:spPr>
          <a:xfrm>
            <a:off x="490680" y="1201680"/>
            <a:ext cx="8491320" cy="5024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2.  What type of economy does the U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003320" y="363384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Market economy.  Decisions are made in the market rather than by the government.  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Focus on real life, page 17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eems the most like the economic system in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three economic question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conomies (or nations) of the world face the basic economic problem of scarcity of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untry must decide how the available resources will be used to meet the needs and wan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3 box"/>
          <p:cNvPicPr/>
          <p:nvPr/>
        </p:nvPicPr>
        <p:blipFill>
          <a:blip r:embed="rId1"/>
          <a:stretch/>
        </p:blipFill>
        <p:spPr>
          <a:xfrm>
            <a:off x="69840" y="1836720"/>
            <a:ext cx="9004320" cy="434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*Basic Economic Questions*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5800" y="2151000"/>
            <a:ext cx="248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408f"/>
                </a:solidFill>
                <a:latin typeface="Arial"/>
              </a:rPr>
              <a:t>What goods and services should be</a:t>
            </a:r>
            <a:br>
              <a:rPr sz="2200"/>
            </a:br>
            <a:r>
              <a:rPr b="1" lang="en-US" sz="2200" spc="-1" strike="noStrike">
                <a:solidFill>
                  <a:srgbClr val="23408f"/>
                </a:solidFill>
                <a:latin typeface="Arial"/>
              </a:rPr>
              <a:t>produc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327480" y="2151000"/>
            <a:ext cx="24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How should it be pro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242040" y="2151000"/>
            <a:ext cx="2482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408f"/>
                </a:solidFill>
                <a:latin typeface="Arial"/>
              </a:rPr>
              <a:t>What needs and wants will be satisfied with the goods and services produc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34880" y="3541680"/>
            <a:ext cx="254628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408f"/>
                </a:solidFill>
                <a:latin typeface="Arial"/>
              </a:rPr>
              <a:t>Deciding to use a resource for one purpose means giving up the opportunity to use it for something e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408f"/>
                </a:solidFill>
                <a:latin typeface="Arial"/>
              </a:rPr>
              <a:t>What is this ca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327480" y="3065400"/>
            <a:ext cx="2482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408f"/>
                </a:solidFill>
                <a:latin typeface="Arial"/>
              </a:rPr>
              <a:t>The methods and labor used as well as the quality of items produced are important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222960" y="4141800"/>
            <a:ext cx="2482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408f"/>
                </a:solidFill>
                <a:latin typeface="Arial"/>
              </a:rPr>
              <a:t>In most societies, people can have as many goods and services as they can afford to bu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1. What to produce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s differ in the type and amount of resources available.  Can you think of 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s differ in their needs.  Can you think of 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ifficult – if a country spends too much in one area, there may not be enough resources to meet other nee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2. How to produce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4480" y="200664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5000"/>
              </a:lnSpc>
              <a:spcBef>
                <a:spcPts val="1125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s must decide what combination of resources will best suit its circumstan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25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 we still are a great agricultural (farming) country but do it much more efficiently now.  H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25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hundred years ago – 80% pop farm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25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– 3% pop farms but produce more good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3. What needs and wants to satisfy?</a:t>
            </a:r>
            <a:br>
              <a:rPr sz="3200"/>
            </a:b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untry must determine which wants and needs are most critical when deciding what to produce…because we know a country can’t produce everything so they must cho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Jonathan Hakim</cp:lastModifiedBy>
  <dcterms:modified xsi:type="dcterms:W3CDTF">2014-06-18T18:49:51Z</dcterms:modified>
  <cp:revision>69</cp:revision>
  <dc:subject/>
  <dc:title>Slide 1</dc:title>
</cp:coreProperties>
</file>